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59FDA-9622-46EB-ACA5-A134E66F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05504-3EBC-4198-AB0C-F720DDC5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6D74D-C9F7-42C8-B445-17A32344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DB149-61BD-400C-AFA8-2900D22E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7CD5-DC13-4357-BFC0-67DBBF6F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F1E5-5026-4307-ABE5-A6241CE4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A1D2-B4DA-43D6-BA52-6F09BBDE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1EEA-07C8-444E-A7C3-4E611586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8D2F-744F-4DB5-9CEA-C36C7597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B540-5B8A-4FA5-B6E8-1226B34A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D7B5-0275-46BC-8E62-8D9D902E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EBC22-2B22-4E1D-85BA-AB89532F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DB95-9366-4A05-96A6-4EED1AF9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0B9D-FA30-4F4D-BA1A-732FC373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8048-457F-4C59-88B6-383C44FE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85DC-D0CA-4C38-A354-46DFC296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2F61-6144-42CB-A23C-E7C1D00C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AE838-2433-431F-BE40-537F251B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C1578-CAEA-4D06-97D5-24048825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02508-B6EB-42BC-BDE4-266369B6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48844-BDDC-4A83-9E08-74C637C7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9CA21-C7A4-4A8F-AD8B-3F42FFB4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64080-CF0A-4C17-8EE7-CEFA74A1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8A4D9-9779-4372-AE7B-2E9411C0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AFB9-3A65-4F43-89BB-7112061C0B8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BA26-3DA8-4DD7-8DA0-33574FCC907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From Sinai To Kadesh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s 10:11 – 14:4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mmary of Lesson 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915400" cy="6181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5486400" y="1905120"/>
            <a:ext cx="121932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Kades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5943600" y="24382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rom Sinai To Kadesh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aining About Circumstances –Num.11:1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aining About Food – 11:4-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es Complains About The People -11:10-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es Complains About His Own Life – 11:14-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Provides For Moses – 11:16-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Provides For The People – 11:31-3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nishing Plag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rom Sinai to Kadesh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lure of Miriam and Aaron 12:1-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riam and Aaron Reb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riam is Puni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es Interce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riam is Resto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ailure At Kadesh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estigating The Promised Land -13:1-3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el Rebels Against God – 14:1-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es Intercedes – 14:11-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Judges Israel – 14:20-3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0 Years of Wande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el Rebels Against God’s Judg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es Warns Israel – 14:39-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alekites Defeat Israel – 14:4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ain Memory Poin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atte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riarc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l of Mo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g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Egypt to Sin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ain Memory Poin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hovah Makes A Coven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 Command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bernac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e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les of Sacrifices &amp; Fea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ship Set In Or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 Holy For I Am Ho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umbered and Organiz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essings &amp; Curses: Obedience vs. Disobedi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ain Memory Poin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Sinai To Kade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aints &amp; Dea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 Sp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shua &amp; Cale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0 Years of Wande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9 Summary Poin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tte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riarc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l of Mo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g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Egypt to Sin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hovah Makes A Coven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Sinai To Kade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17:08:03Z</dcterms:created>
  <dc:creator>Terry W. Benton</dc:creator>
  <dc:description/>
  <dc:language>en-US</dc:language>
  <cp:lastModifiedBy>Terry W. Benton</cp:lastModifiedBy>
  <dcterms:modified xsi:type="dcterms:W3CDTF">2004-11-30T17:01:35Z</dcterms:modified>
  <cp:revision>4</cp:revision>
  <dc:subject/>
  <dc:title>From Sinai To Kadesh</dc:title>
</cp:coreProperties>
</file>